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23E-6E60-4AFC-8E95-E37156B9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7A7-B658-4430-8635-B3BE3086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CC9-1958-425F-81B6-532C47D4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AB4-C4B3-4FAB-B3EC-D40F2326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C35-9CC0-4C37-82D5-4485F9C5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716-75E8-4106-8331-37F062EE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40D-E812-4D20-AFC2-6DB88FE6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084-CBED-4BBD-B6B3-932D83C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92D-11D8-446D-9125-925013F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871-A386-4DD3-A4B0-166FE11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FEC-8B71-44AA-A3C3-AC27F7AD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A04-36B0-441E-907C-1D37E50B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DF2F-95D7-4554-BC83-1B8EA6E1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873C-D5E0-474B-A1CB-CD76081B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DC8C-3E77-4F51-9589-F9B7A1E6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FAA8-7CC3-442B-813F-C9B88841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BF2A-5CE9-4714-8843-67E8146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F490-30EB-465F-9C1E-6801D672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B274-601E-404B-9193-0376B30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EFD7-44B1-4AF8-A176-17D91E46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EEC1-99BE-45CC-A0E4-2EB9556D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5721-74E5-491F-88C3-EA84B34D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819A-7E15-406B-9250-50A1855D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4AF3-A938-42DC-85DE-B5735D9D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65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0120" y="249120"/>
            <a:ext cx="795024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0040" y="4147920"/>
            <a:ext cx="63309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13480" indent="0" algn="ctr">
              <a:lnSpc>
                <a:spcPts val="3835"/>
              </a:lnSpc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3480" indent="-198720" algn="ctr">
              <a:lnSpc>
                <a:spcPts val="3835"/>
              </a:lnSpc>
              <a:spcAft>
                <a:spcPts val="13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4680" y="3276720"/>
            <a:ext cx="9137520" cy="152280"/>
            <a:chOff x="4680" y="3276720"/>
            <a:chExt cx="9137520" cy="152280"/>
          </a:xfrm>
        </p:grpSpPr>
        <p:sp>
          <p:nvSpPr>
            <p:cNvPr id="5" name="Freeform 6"/>
            <p:cNvSpPr/>
            <p:nvPr/>
          </p:nvSpPr>
          <p:spPr>
            <a:xfrm>
              <a:off x="4680" y="3276720"/>
              <a:ext cx="9137520" cy="7452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4680" y="3390840"/>
              <a:ext cx="9137520" cy="38160"/>
            </a:xfrm>
            <a:custGeom>
              <a:avLst/>
              <a:gdLst>
                <a:gd name="textAreaLeft" fmla="*/ 0 w 9137520"/>
                <a:gd name="textAreaRight" fmla="*/ 9137880 w 9137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88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3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67A7-F78C-4B57-B007-650AD696DB61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9e90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ce996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e9964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ce9964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02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0019-0F30-407D-947D-D33F36F03139}" type="slidenum">
              <a:rPr b="0" lang="en-US" sz="7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44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87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30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173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16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259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02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1"/>
          <p:cNvGrpSpPr/>
          <p:nvPr/>
        </p:nvGrpSpPr>
        <p:grpSpPr>
          <a:xfrm>
            <a:off x="0" y="1428840"/>
            <a:ext cx="9142560" cy="151920"/>
            <a:chOff x="0" y="1428840"/>
            <a:chExt cx="9142560" cy="151920"/>
          </a:xfrm>
        </p:grpSpPr>
        <p:sp>
          <p:nvSpPr>
            <p:cNvPr id="345" name="Freeform 2"/>
            <p:cNvSpPr/>
            <p:nvPr/>
          </p:nvSpPr>
          <p:spPr>
            <a:xfrm>
              <a:off x="0" y="1428840"/>
              <a:ext cx="9142560" cy="7452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3"/>
            <p:cNvSpPr/>
            <p:nvPr/>
          </p:nvSpPr>
          <p:spPr>
            <a:xfrm>
              <a:off x="0" y="1542960"/>
              <a:ext cx="9142560" cy="3780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238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68280" indent="0" algn="ctr">
              <a:lnSpc>
                <a:spcPts val="5298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7920" y="2014560"/>
            <a:ext cx="7778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280" indent="-34272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ts val="3835"/>
              </a:lnSpc>
              <a:spcAft>
                <a:spcPts val="901"/>
              </a:spcAft>
              <a:buClr>
                <a:srgbClr val="ffff66"/>
              </a:buClr>
              <a:buSzPct val="64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ts val="3835"/>
              </a:lnSpc>
              <a:spcAft>
                <a:spcPts val="901"/>
              </a:spcAft>
              <a:buClr>
                <a:srgbClr val="ffcc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71880" indent="-343080">
              <a:lnSpc>
                <a:spcPts val="3835"/>
              </a:lnSpc>
              <a:spcAft>
                <a:spcPts val="901"/>
              </a:spcAft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9084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4453200" y="6294600"/>
            <a:ext cx="225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840" y="228600"/>
            <a:ext cx="8912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Solving Quadratic Equation</a:t>
            </a:r>
            <a:br>
              <a:rPr sz="4500"/>
            </a:br>
            <a:r>
              <a:rPr b="1" lang="en-US" sz="4500" spc="-1" strike="noStrike">
                <a:solidFill>
                  <a:srgbClr val="402000"/>
                </a:solidFill>
                <a:latin typeface="Times New Roman"/>
              </a:rPr>
              <a:t> by Graphing</a:t>
            </a:r>
            <a:endParaRPr b="0" lang="en-US" sz="45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3309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ts val="5998"/>
              </a:lnSpc>
              <a:spcAft>
                <a:spcPts val="15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402000"/>
                </a:solidFill>
                <a:latin typeface="Book Antiqua"/>
              </a:rPr>
              <a:t>Section 6.1</a:t>
            </a:r>
            <a:endParaRPr b="0" lang="en-US" sz="47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06668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 of a quadratic equation is a parabola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roots or zeros are the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vertex is the maximum or minimum point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All parabolas have an axis of symmetry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One method of graphing uses a table with arbitrar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x-valu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Graph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4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   0 and 4 ,   Vertex  (2, -4) ,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x = 2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55600" y="3606840"/>
            <a:ext cx="1270080" cy="1815840"/>
            <a:chOff x="1155600" y="3606840"/>
            <a:chExt cx="1270080" cy="1815840"/>
          </a:xfrm>
        </p:grpSpPr>
        <p:sp>
          <p:nvSpPr>
            <p:cNvPr id="574" name="Rectangle 4"/>
            <p:cNvSpPr/>
            <p:nvPr/>
          </p:nvSpPr>
          <p:spPr>
            <a:xfrm>
              <a:off x="115560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1790640" y="36068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08366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115560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1790640" y="39114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115560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1790640" y="421632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"/>
            <p:cNvSpPr/>
            <p:nvPr/>
          </p:nvSpPr>
          <p:spPr>
            <a:xfrm>
              <a:off x="115560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1"/>
            <p:cNvSpPr/>
            <p:nvPr/>
          </p:nvSpPr>
          <p:spPr>
            <a:xfrm>
              <a:off x="1790640" y="4521240"/>
              <a:ext cx="635040" cy="3045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2"/>
            <p:cNvSpPr/>
            <p:nvPr/>
          </p:nvSpPr>
          <p:spPr>
            <a:xfrm>
              <a:off x="115560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1790640" y="4825800"/>
              <a:ext cx="635040" cy="30492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115560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5"/>
            <p:cNvSpPr/>
            <p:nvPr/>
          </p:nvSpPr>
          <p:spPr>
            <a:xfrm>
              <a:off x="1790640" y="5130720"/>
              <a:ext cx="635040" cy="291960"/>
            </a:xfrm>
            <a:prstGeom prst="rect">
              <a:avLst/>
            </a:prstGeom>
            <a:noFill/>
            <a:ln w="93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083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6"/>
            <p:cNvSpPr/>
            <p:nvPr/>
          </p:nvSpPr>
          <p:spPr>
            <a:xfrm>
              <a:off x="115560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7"/>
            <p:cNvSpPr/>
            <p:nvPr/>
          </p:nvSpPr>
          <p:spPr>
            <a:xfrm>
              <a:off x="179064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8"/>
            <p:cNvSpPr/>
            <p:nvPr/>
          </p:nvSpPr>
          <p:spPr>
            <a:xfrm>
              <a:off x="2425680" y="3606840"/>
              <a:ext cx="0" cy="181584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9"/>
            <p:cNvSpPr/>
            <p:nvPr/>
          </p:nvSpPr>
          <p:spPr>
            <a:xfrm>
              <a:off x="1155600" y="36068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20"/>
            <p:cNvSpPr/>
            <p:nvPr/>
          </p:nvSpPr>
          <p:spPr>
            <a:xfrm>
              <a:off x="1155600" y="39114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1"/>
            <p:cNvSpPr/>
            <p:nvPr/>
          </p:nvSpPr>
          <p:spPr>
            <a:xfrm>
              <a:off x="1155600" y="42163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2"/>
            <p:cNvSpPr/>
            <p:nvPr/>
          </p:nvSpPr>
          <p:spPr>
            <a:xfrm>
              <a:off x="1155600" y="452124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3"/>
            <p:cNvSpPr/>
            <p:nvPr/>
          </p:nvSpPr>
          <p:spPr>
            <a:xfrm>
              <a:off x="1155600" y="482580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4"/>
            <p:cNvSpPr/>
            <p:nvPr/>
          </p:nvSpPr>
          <p:spPr>
            <a:xfrm>
              <a:off x="1155600" y="513072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5"/>
            <p:cNvSpPr/>
            <p:nvPr/>
          </p:nvSpPr>
          <p:spPr>
            <a:xfrm>
              <a:off x="1155600" y="5422680"/>
              <a:ext cx="1270080" cy="0"/>
            </a:xfrm>
            <a:prstGeom prst="line">
              <a:avLst/>
            </a:prstGeom>
            <a:ln cap="sq" w="2556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icture 27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37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Try this problem   y = x</a:t>
            </a:r>
            <a:r>
              <a:rPr b="1" lang="en-US" sz="24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 - 2x - 8.</a:t>
            </a: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Roo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Verte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Book Antiqua"/>
              </a:rPr>
              <a:t>Axis of Symmetry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91440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143000" y="2336760"/>
            <a:ext cx="1270080" cy="1815840"/>
            <a:chOff x="1143000" y="2336760"/>
            <a:chExt cx="1270080" cy="1815840"/>
          </a:xfrm>
        </p:grpSpPr>
        <p:sp>
          <p:nvSpPr>
            <p:cNvPr id="600" name="Rectangle 4"/>
            <p:cNvSpPr/>
            <p:nvPr/>
          </p:nvSpPr>
          <p:spPr>
            <a:xfrm>
              <a:off x="114300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5"/>
            <p:cNvSpPr/>
            <p:nvPr/>
          </p:nvSpPr>
          <p:spPr>
            <a:xfrm>
              <a:off x="1778040" y="23367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3036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Book Antiqu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6"/>
            <p:cNvSpPr/>
            <p:nvPr/>
          </p:nvSpPr>
          <p:spPr>
            <a:xfrm>
              <a:off x="114300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7"/>
            <p:cNvSpPr/>
            <p:nvPr/>
          </p:nvSpPr>
          <p:spPr>
            <a:xfrm>
              <a:off x="1778040" y="26413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8"/>
            <p:cNvSpPr/>
            <p:nvPr/>
          </p:nvSpPr>
          <p:spPr>
            <a:xfrm>
              <a:off x="114300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1778040" y="294624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10"/>
            <p:cNvSpPr/>
            <p:nvPr/>
          </p:nvSpPr>
          <p:spPr>
            <a:xfrm>
              <a:off x="114300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1778040" y="3251160"/>
              <a:ext cx="635040" cy="3045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2"/>
            <p:cNvSpPr/>
            <p:nvPr/>
          </p:nvSpPr>
          <p:spPr>
            <a:xfrm>
              <a:off x="114300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3"/>
            <p:cNvSpPr/>
            <p:nvPr/>
          </p:nvSpPr>
          <p:spPr>
            <a:xfrm>
              <a:off x="1778040" y="3555720"/>
              <a:ext cx="635040" cy="3049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4"/>
            <p:cNvSpPr/>
            <p:nvPr/>
          </p:nvSpPr>
          <p:spPr>
            <a:xfrm>
              <a:off x="114300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237"/>
                </a:lnSpc>
                <a:tabLst>
                  <a:tab algn="l" pos="0"/>
                  <a:tab algn="l" pos="25560"/>
                  <a:tab algn="l" pos="596880"/>
                  <a:tab algn="l" pos="1511280"/>
                  <a:tab algn="l" pos="2425680"/>
                  <a:tab algn="l" pos="3340080"/>
                  <a:tab algn="l" pos="4254480"/>
                  <a:tab algn="l" pos="5168880"/>
                  <a:tab algn="l" pos="6083280"/>
                  <a:tab algn="l" pos="699768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5"/>
            <p:cNvSpPr/>
            <p:nvPr/>
          </p:nvSpPr>
          <p:spPr>
            <a:xfrm>
              <a:off x="1778040" y="3860640"/>
              <a:ext cx="635040" cy="29196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114300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>
              <a:off x="177804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2413080" y="2336760"/>
              <a:ext cx="0" cy="181584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1143000" y="23367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1143000" y="26413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1143000" y="29462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>
              <a:off x="1143000" y="325116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>
              <a:off x="1143000" y="355572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>
              <a:off x="1143000" y="386064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>
              <a:off x="1143000" y="4152600"/>
              <a:ext cx="127008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7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136680" cy="3429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 flipH="1" rot="10800000">
            <a:off x="4800600" y="6858000"/>
            <a:ext cx="323856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5120" y="2014560"/>
            <a:ext cx="77788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graphing calculator is also a helpful tool for graphing quadratic equation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037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Refer to classwork1 for directions for graphing quadratic equations on the Casio.</a:t>
            </a:r>
            <a:r>
              <a:rPr b="1" lang="en-US" sz="1200" spc="-1" strike="noStrike">
                <a:solidFill>
                  <a:srgbClr val="402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1117440" y="0"/>
            <a:ext cx="802656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Graphing Quadratic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Quadratic Equation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y = ax</a:t>
            </a:r>
            <a:r>
              <a:rPr b="1" lang="en-US" sz="5100" spc="-1" strike="noStrike" baseline="1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+ bx + c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a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 is the quadratic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bx is the linear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c is the constant ter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Aft>
                <a:spcPts val="1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Times New Roman"/>
              </a:rPr>
              <a:t>The highest exponent is two; therefore, the degree is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778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=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7x+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5x</a:t>
            </a:r>
            <a:r>
              <a:rPr b="1" lang="en-US" sz="3400" spc="-1" strike="noStrike" baseline="30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-7x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	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1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6334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5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720" y="17521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    4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          0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     -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555480" y="479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5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- 2x + 3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quadratic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linear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constant term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90360" y="0"/>
            <a:ext cx="755964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Term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6707160" y="3962520"/>
            <a:ext cx="58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Quadratic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5410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32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830600" cy="19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3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2057400" cy="2014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286000" cy="19702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7"/>
          <p:cNvSpPr/>
          <p:nvPr/>
        </p:nvSpPr>
        <p:spPr>
          <a:xfrm>
            <a:off x="3429000" y="54100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5867280" y="5410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02656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2000"/>
                </a:solidFill>
                <a:latin typeface="Times New Roman"/>
              </a:rPr>
              <a:t>Solving Equa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499"/>
              </a:lnSpc>
              <a:spcAft>
                <a:spcPts val="1400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When we talk about solving these equations, we want to find the value of  x when y = 0.  These values, where the graph crosses the x-axis, are called the   x-intercep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ts val="4499"/>
              </a:lnSpc>
              <a:spcAft>
                <a:spcPts val="201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These values are also referred to as solutions, zeros, or roots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Example  f(x) =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- 4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829480" y="1676520"/>
            <a:ext cx="3314520" cy="339084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6"/>
          <p:cNvSpPr/>
          <p:nvPr/>
        </p:nvSpPr>
        <p:spPr>
          <a:xfrm>
            <a:off x="1219320" y="5029200"/>
            <a:ext cx="54864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Book Antiqua"/>
              </a:rPr>
              <a:t>Solutions are -2 and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Now you try this problem. 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   </a:t>
            </a: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f(x) = 2x - x</a:t>
            </a:r>
            <a:r>
              <a:rPr b="1" lang="en-US" sz="5100" spc="-1" strike="noStrike" baseline="33000">
                <a:solidFill>
                  <a:srgbClr val="402000"/>
                </a:solidFill>
                <a:latin typeface="Book Antiqua"/>
              </a:rPr>
              <a:t>2</a:t>
            </a:r>
            <a:endParaRPr b="0" lang="en-US" sz="51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2000"/>
                </a:solidFill>
                <a:latin typeface="Book Antiqua"/>
              </a:rPr>
              <a:t>Solutions are   0 and 2.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02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090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06:32:40Z</dcterms:created>
  <dc:creator>HCPS</dc:creator>
  <dc:description/>
  <cp:keywords>OPA</cp:keywords>
  <dc:language>en-US</dc:language>
  <cp:lastModifiedBy>MHIS</cp:lastModifiedBy>
  <dcterms:modified xsi:type="dcterms:W3CDTF">2013-04-11T17:17:53Z</dcterms:modified>
  <cp:revision>5</cp:revision>
  <dc:subject/>
  <dc:title>Solving Quadratic Equation  by Graphing</dc:title>
</cp:coreProperties>
</file>